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7FB5-AB1B-41CD-86C1-AA26B9E392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71AA-C7B8-436B-B7C2-A77B77E7BD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603-3A3A-4131-B37A-A7D4044E2E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9A0-C9D2-4D2A-9F90-4C0A40BF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995-83E8-4256-9C81-1F0A1C5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050-E256-43B7-AD0C-892B2886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897-3E60-4616-B315-F39388E6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BA7-FCA9-4745-92F0-900CE0F9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66C-5210-4808-B6C7-64C10DD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5D1-9EB5-4BDC-88D3-AAAAD836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0BD-5871-4940-B484-FD96BF6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9CC-F9B6-4245-B501-D2F3351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E88-50D5-4008-A42B-C1D70C0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381-2361-4440-B963-25192BA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606-268B-438C-B235-90640ED3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247E-B53F-4D2E-9075-33A7B2C7414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o 8"/>
          <p:cNvGrpSpPr/>
          <p:nvPr/>
        </p:nvGrpSpPr>
        <p:grpSpPr>
          <a:xfrm>
            <a:off x="466560" y="333360"/>
            <a:ext cx="4248360" cy="541440"/>
            <a:chOff x="466560" y="333360"/>
            <a:chExt cx="4248360" cy="541440"/>
          </a:xfrm>
        </p:grpSpPr>
        <p:pic>
          <p:nvPicPr>
            <p:cNvPr id="49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466560" y="33336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CasellaDiTesto 15"/>
            <p:cNvSpPr/>
            <p:nvPr/>
          </p:nvSpPr>
          <p:spPr>
            <a:xfrm>
              <a:off x="898920" y="476280"/>
              <a:ext cx="381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" descr="regione"/>
          <p:cNvPicPr/>
          <p:nvPr/>
        </p:nvPicPr>
        <p:blipFill>
          <a:blip r:embed="rId2"/>
          <a:stretch/>
        </p:blipFill>
        <p:spPr>
          <a:xfrm>
            <a:off x="5867280" y="333360"/>
            <a:ext cx="2016360" cy="469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148360" y="837720"/>
            <a:ext cx="3671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68"/>
                </a:solidFill>
                <a:latin typeface="Calibri"/>
              </a:rPr>
              <a:t>Assessorato alle Politiche attive del Lavor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68"/>
                </a:solidFill>
                <a:latin typeface="Calibri"/>
              </a:rPr>
              <a:t>Formazione ed Istruzione, </a:t>
            </a:r>
            <a:r>
              <a:rPr b="0" lang="en-US" sz="1000" spc="-1" strike="noStrike">
                <a:solidFill>
                  <a:srgbClr val="000099"/>
                </a:solidFill>
                <a:latin typeface="Calibri"/>
              </a:rPr>
              <a:t>Politiche</a:t>
            </a:r>
            <a:r>
              <a:rPr b="0" lang="en-US" sz="1000" spc="-1" strike="noStrike">
                <a:solidFill>
                  <a:srgbClr val="222268"/>
                </a:solidFill>
                <a:latin typeface="Calibri"/>
              </a:rPr>
              <a:t> Sociali</a:t>
            </a:r>
            <a:r>
              <a:rPr b="0" lang="en-US" sz="1100" spc="-1" strike="noStrike">
                <a:solidFill>
                  <a:srgbClr val="222268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378000" y="2193840"/>
            <a:ext cx="8467560" cy="3951360"/>
            <a:chOff x="378000" y="2193840"/>
            <a:chExt cx="8467560" cy="3951360"/>
          </a:xfrm>
        </p:grpSpPr>
        <p:pic>
          <p:nvPicPr>
            <p:cNvPr id="54" name="Rectangle 6" descr=""/>
            <p:cNvPicPr/>
            <p:nvPr/>
          </p:nvPicPr>
          <p:blipFill>
            <a:blip r:embed="rId3"/>
            <a:stretch/>
          </p:blipFill>
          <p:spPr>
            <a:xfrm>
              <a:off x="378000" y="2193840"/>
              <a:ext cx="8467560" cy="39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95280" y="2217240"/>
              <a:ext cx="8424720" cy="38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ctr" pos="3060720"/>
                  <a:tab algn="r" pos="6119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c00000"/>
                  </a:solidFill>
                  <a:latin typeface="Calibri"/>
                </a:rPr>
                <a:t>ACCORD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ctr" pos="3060720"/>
                  <a:tab algn="r" pos="6119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c00000"/>
                  </a:solidFill>
                  <a:latin typeface="Calibri"/>
                </a:rPr>
                <a:t>PERCORSI TRIENNAL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ctr" pos="3060720"/>
                  <a:tab algn="r" pos="6119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c00000"/>
                  </a:solidFill>
                  <a:latin typeface="Calibri"/>
                </a:rPr>
                <a:t>QUALIFICA PROFESSIONALE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ctr" pos="3060720"/>
                  <a:tab algn="r" pos="6119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c00000"/>
                  </a:solidFill>
                  <a:latin typeface="Calibri"/>
                </a:rPr>
                <a:t>REALIZZABILI DAGL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ctr" pos="3060720"/>
                  <a:tab algn="r" pos="6119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1" lang="it-IT" sz="3200" spc="-1" strike="noStrike">
                  <a:solidFill>
                    <a:srgbClr val="c00000"/>
                  </a:solidFill>
                  <a:latin typeface="Calibri"/>
                </a:rPr>
                <a:t>ISTITUTI PROFESSIONALI D’ABRUZZ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ctr" pos="3060720"/>
                  <a:tab algn="r" pos="6119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ctr" pos="3060720"/>
                  <a:tab algn="r" pos="6119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Arial"/>
                </a:rPr>
                <a:t>Giulianova – 30.05.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6553440" cy="5605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</a:rPr>
              <a:t>CARATTERISTICHE DELL’ACCORD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 fontScale="97000"/>
          </a:bodyPr>
          <a:p>
            <a:pPr marL="25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Calibri"/>
              </a:rPr>
              <a:t>Offerta sussidiaria integr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Gli I.P. utilizzano le quote di autonomia e flessibilità previste dal D.P.R. 87/2010 sulla base dei seguenti crit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personalizzazione dei percorsi, in rapporto alle categorie degli studenti destinatari e a specifici fabbisogni forma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caratterizzazione dell’offerta sul territorio, in rapporto alle esigenze formative del mondo del lavo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determinazione qualitativa dell’organico in relazione ai profili formativi e professionali di riferimento, nel rispetto dei vincoli di finanza pubbl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riferimento all’ordinamento statale e raccordo con la specifica disciplina regionale del sistema di Istruzione e Formazione Profess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07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51280" y="3715920"/>
            <a:ext cx="5076720" cy="2521080"/>
          </a:xfrm>
          <a:prstGeom prst="rect">
            <a:avLst/>
          </a:prstGeom>
          <a:solidFill>
            <a:srgbClr val="ccecff"/>
          </a:solidFill>
          <a:ln w="2844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reviste misure di accompagnamento per i raccordi tra  sistemi, nei limiti delle risorse umane, strumentali e finanziarie disponibili, con particolare riguardo alla prevenzione e contrasto della dispersione scolastica e alla collaborazione tra Istituzioni scolastiche e 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11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31640" y="907560"/>
            <a:ext cx="6553080" cy="576360"/>
          </a:xfrm>
          <a:prstGeom prst="rect">
            <a:avLst/>
          </a:prstGeom>
          <a:solidFill>
            <a:srgbClr val="ccecff"/>
          </a:solidFill>
          <a:ln w="284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CARATTERISTICHE DELL’ACCORD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9"/>
          <p:cNvSpPr/>
          <p:nvPr/>
        </p:nvSpPr>
        <p:spPr>
          <a:xfrm>
            <a:off x="250920" y="1628640"/>
            <a:ext cx="3600360" cy="1847880"/>
          </a:xfrm>
          <a:prstGeom prst="rect">
            <a:avLst/>
          </a:prstGeom>
          <a:solidFill>
            <a:srgbClr val="ccec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L’attivazione dell’offerta sussidiaria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non dovrà comportare aumenti negli organici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assegnati agli I.P. per le classi attivate per i percorsi quinquenn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10"/>
          <p:cNvSpPr/>
          <p:nvPr/>
        </p:nvSpPr>
        <p:spPr>
          <a:xfrm>
            <a:off x="4356000" y="1989000"/>
            <a:ext cx="4392720" cy="126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on potranno essere operate distinzioni fra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lassi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a percorso quinquennale e classi a percorso trien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11"/>
          <p:cNvSpPr/>
          <p:nvPr/>
        </p:nvSpPr>
        <p:spPr>
          <a:xfrm>
            <a:off x="179280" y="3789360"/>
            <a:ext cx="3600720" cy="214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on sono previsti oneri a carico della Regione, se non quelli per il Presidente delle Commissioni degli esami di qualifica, dei commissari esterni e degli espe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47640" y="4220640"/>
            <a:ext cx="5904000" cy="2087640"/>
          </a:xfrm>
          <a:prstGeom prst="rect">
            <a:avLst/>
          </a:prstGeom>
          <a:solidFill>
            <a:srgbClr val="ccecff"/>
          </a:solidFill>
          <a:ln w="2844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Composizione del T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Regione Abru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Ufficio Scolastico Regionale e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Dirigenti Scolastici individuati dall’U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19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32000" y="980640"/>
            <a:ext cx="6480000" cy="5619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CARATTERISTICHE DELL’ACCORD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6"/>
          <p:cNvSpPr/>
          <p:nvPr/>
        </p:nvSpPr>
        <p:spPr>
          <a:xfrm>
            <a:off x="1619280" y="1989000"/>
            <a:ext cx="5761080" cy="1925640"/>
          </a:xfrm>
          <a:prstGeom prst="rect">
            <a:avLst/>
          </a:prstGeom>
          <a:solidFill>
            <a:srgbClr val="ccec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avolo Tecnico Interistituzionale p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realizzazione dell’Acc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definizione delle misure di accompagn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http://t1.gstatic.com/images?q=tbn:ANd9GcShJcyuJ-8Kdzm32RXplN83ARnZvRcC-Jnt0j9Wemzop_JlDUeVRg"/>
          <p:cNvPicPr/>
          <p:nvPr/>
        </p:nvPicPr>
        <p:blipFill>
          <a:blip r:embed="rId2"/>
          <a:stretch/>
        </p:blipFill>
        <p:spPr>
          <a:xfrm>
            <a:off x="6443640" y="1989000"/>
            <a:ext cx="865080" cy="74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ttp://t1.gstatic.com/images?q=tbn:ANd9GcShJcyuJ-8Kdzm32RXplN83ARnZvRcC-Jnt0j9Wemzop_JlDUeVRg"/>
          <p:cNvPicPr/>
          <p:nvPr/>
        </p:nvPicPr>
        <p:blipFill>
          <a:blip r:embed="rId3"/>
          <a:stretch/>
        </p:blipFill>
        <p:spPr>
          <a:xfrm>
            <a:off x="6443640" y="429264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3429000"/>
            <a:ext cx="8229600" cy="244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Calibri"/>
              </a:rPr>
              <a:t>Alunni frequentanti le prime classi nel corrente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rientrano nel precedente regime surrogato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esami di qualifica nel giugno 2013 con l’assetto del vecchio ordi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Le competenze di uscita dovranno armonizzarsi alle nuove qualif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655308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DECORRENZA DELL’ACC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28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ttangolo 7"/>
          <p:cNvSpPr/>
          <p:nvPr/>
        </p:nvSpPr>
        <p:spPr>
          <a:xfrm>
            <a:off x="539640" y="2133720"/>
            <a:ext cx="770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all’anno scolastico 2011/2012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, a partire dal quale ha termine il regime surrogatorio vig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4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 algn="just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Necessità di  mantenersi rigidamente entro i limiti delle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risorse umane e finanziarie esistenti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, che impedisce una offerta sussidiaria coerente con le nuove qualifiche profess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 algn="just">
              <a:lnSpc>
                <a:spcPts val="2798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Difficoltà ad applicare in modo diffuso e condiviso gli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spazi di flessibilità del curriculo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, previsti dal D.P.R. 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 algn="just">
              <a:lnSpc>
                <a:spcPts val="2798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Difficile equilibrio da trovare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nell’offerta formativa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tra il conseguimento dei livelli essenziali delle prestazioni degli assi culturali e le competenze professionali di us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 algn="just">
              <a:lnSpc>
                <a:spcPts val="2798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Necessità di salvaguardare comunque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l’identità del percorso quinquennale di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33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2"/>
          <p:cNvSpPr/>
          <p:nvPr/>
        </p:nvSpPr>
        <p:spPr>
          <a:xfrm>
            <a:off x="1332000" y="981000"/>
            <a:ext cx="655308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CRITICITÀ DELL’ACC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88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c00000"/>
                </a:solidFill>
                <a:uFillTx/>
                <a:latin typeface="Calibri"/>
              </a:rPr>
              <a:t>Alunni frequentanti il 1° anno degli IP che hanno fatto richiesta del percorso di qualifica professiona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percorso in regime surrogato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esami finali secondo il vecchio ordi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c00000"/>
                </a:solidFill>
                <a:uFillTx/>
                <a:latin typeface="Calibri"/>
              </a:rPr>
              <a:t>Alunni iscritti all’a.s. 2011/2012che hanno fatto richiesta del percorso di qualifica professiona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2060"/>
                </a:solidFill>
                <a:latin typeface="Calibri"/>
              </a:rPr>
              <a:t>Percorso in regime sussidiario come previsto dall’Accor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864520" y="1844640"/>
            <a:ext cx="3333960" cy="435240"/>
          </a:xfrm>
          <a:prstGeom prst="rect">
            <a:avLst/>
          </a:prstGeom>
          <a:solidFill>
            <a:srgbClr val="ccec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alisi delle iscri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39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2"/>
          <p:cNvSpPr/>
          <p:nvPr/>
        </p:nvSpPr>
        <p:spPr>
          <a:xfrm>
            <a:off x="1332000" y="981000"/>
            <a:ext cx="655308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dempimenti degli Isti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971640" y="2133720"/>
            <a:ext cx="7056360" cy="303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00000"/>
              </a:lnSpc>
              <a:spcBef>
                <a:spcPts val="1500"/>
              </a:spcBef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8a"/>
                </a:solidFill>
                <a:latin typeface="Calibri"/>
              </a:rPr>
              <a:t>Delibera Organi colleg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500"/>
              </a:spcBef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8a"/>
                </a:solidFill>
                <a:latin typeface="Calibri"/>
              </a:rPr>
              <a:t>Richiesta alla Regione per l’attivazione di qualifiche coerenti con gli indirizzi presenti nell’istit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500"/>
              </a:spcBef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8a"/>
                </a:solidFill>
                <a:latin typeface="Calibri"/>
              </a:rPr>
              <a:t>Integrazione dell’Offerta Formativa, per consentire agli alunni che intendono conseguire la qualifica di raggiungere i livelli di competenze previsti dalle Linee-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44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2"/>
          <p:cNvSpPr/>
          <p:nvPr/>
        </p:nvSpPr>
        <p:spPr>
          <a:xfrm>
            <a:off x="1187280" y="1413000"/>
            <a:ext cx="655344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DESIONE ALL’ACCO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 rot="20303400">
            <a:off x="-102960" y="181044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150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1682640" cy="1592280"/>
          </a:xfrm>
          <a:prstGeom prst="rect">
            <a:avLst/>
          </a:prstGeom>
          <a:ln w="0">
            <a:noFill/>
          </a:ln>
        </p:spPr>
      </p:pic>
      <p:sp>
        <p:nvSpPr>
          <p:cNvPr id="153" name="Rettangolo 7"/>
          <p:cNvSpPr/>
          <p:nvPr/>
        </p:nvSpPr>
        <p:spPr>
          <a:xfrm>
            <a:off x="2843280" y="501336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A cura del Gruppo Tecnico Regionale per la Riforma degli I.P</a:t>
            </a: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1052280"/>
            <a:ext cx="497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PREM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619280" y="177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iforma degli Istituti Profession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D.P.R. 15.3.2010 n. 8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24000" y="2997360"/>
            <a:ext cx="3384360" cy="222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c3300"/>
                </a:solidFill>
                <a:uFillTx/>
                <a:latin typeface="Calibri"/>
              </a:rPr>
              <a:t>Art. 2 comma 3</a:t>
            </a:r>
            <a:r>
              <a:rPr b="1" lang="it-IT" sz="2400" spc="-1" strike="noStrike" u="sng">
                <a:solidFill>
                  <a:srgbClr val="333399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Possibilità per gli  I.P. di svolgere in </a:t>
            </a:r>
            <a:r>
              <a:rPr b="1" lang="it-IT" sz="2400" spc="-1" strike="noStrike">
                <a:solidFill>
                  <a:srgbClr val="cc3300"/>
                </a:solidFill>
                <a:latin typeface="Calibri"/>
              </a:rPr>
              <a:t>regime di sussidiarietà</a:t>
            </a: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 percorsi per il conseguimento delle qualifiche di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51280" y="3645000"/>
            <a:ext cx="5041800" cy="194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alibri"/>
              </a:rPr>
              <a:t>Accordo Stato-Regioni 29 aprile 2010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Nuove qualifiche professionali e relativi standard minimi delle competenze tecnico-professionali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uppo 7"/>
          <p:cNvGrpSpPr/>
          <p:nvPr/>
        </p:nvGrpSpPr>
        <p:grpSpPr>
          <a:xfrm>
            <a:off x="466560" y="333360"/>
            <a:ext cx="4248360" cy="541440"/>
            <a:chOff x="466560" y="333360"/>
            <a:chExt cx="4248360" cy="541440"/>
          </a:xfrm>
        </p:grpSpPr>
        <p:pic>
          <p:nvPicPr>
            <p:cNvPr id="61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466560" y="33336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CasellaDiTesto 15"/>
            <p:cNvSpPr/>
            <p:nvPr/>
          </p:nvSpPr>
          <p:spPr>
            <a:xfrm>
              <a:off x="898920" y="476280"/>
              <a:ext cx="381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059280" y="1484280"/>
            <a:ext cx="561636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Calibri"/>
              </a:rPr>
              <a:t>Direttiva MIUR 28 luglio 2010 n.65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Linee guida per il passaggio al nuo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ordinamento degli I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987640" y="4076640"/>
            <a:ext cx="5832360" cy="187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Calibri"/>
              </a:rPr>
              <a:t>Conferenza Unificata 16 dicembr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Raccordi tra i percorsi quinquennali degli I.P. e percorsi di Ie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Intesa recepita con </a:t>
            </a:r>
            <a:r>
              <a:rPr b="1" lang="it-IT" sz="2400" spc="-1" strike="noStrike" u="sng">
                <a:solidFill>
                  <a:srgbClr val="333399"/>
                </a:solidFill>
                <a:uFillTx/>
                <a:latin typeface="Calibri"/>
              </a:rPr>
              <a:t>Decreto MIUR n. 4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uppo 7"/>
          <p:cNvGrpSpPr/>
          <p:nvPr/>
        </p:nvGrpSpPr>
        <p:grpSpPr>
          <a:xfrm>
            <a:off x="466560" y="333360"/>
            <a:ext cx="4248360" cy="541440"/>
            <a:chOff x="466560" y="333360"/>
            <a:chExt cx="4248360" cy="541440"/>
          </a:xfrm>
        </p:grpSpPr>
        <p:pic>
          <p:nvPicPr>
            <p:cNvPr id="66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466560" y="33336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CasellaDiTesto 15"/>
            <p:cNvSpPr/>
            <p:nvPr/>
          </p:nvSpPr>
          <p:spPr>
            <a:xfrm>
              <a:off x="898920" y="476280"/>
              <a:ext cx="381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2427120" cy="2232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4"/>
          <p:cNvGrpSpPr/>
          <p:nvPr/>
        </p:nvGrpSpPr>
        <p:grpSpPr>
          <a:xfrm>
            <a:off x="158760" y="1682640"/>
            <a:ext cx="4437000" cy="4589640"/>
            <a:chOff x="158760" y="1682640"/>
            <a:chExt cx="4437000" cy="4589640"/>
          </a:xfrm>
        </p:grpSpPr>
        <p:pic>
          <p:nvPicPr>
            <p:cNvPr id="70" name="Rectangle 4" descr=""/>
            <p:cNvPicPr/>
            <p:nvPr/>
          </p:nvPicPr>
          <p:blipFill>
            <a:blip r:embed="rId1"/>
            <a:stretch/>
          </p:blipFill>
          <p:spPr>
            <a:xfrm>
              <a:off x="158760" y="1682640"/>
              <a:ext cx="443700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50920" y="1773360"/>
              <a:ext cx="4249800" cy="43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c00000"/>
                  </a:solidFill>
                  <a:uFillTx/>
                  <a:latin typeface="Calibri"/>
                </a:rPr>
                <a:t>TIPOLOGIA A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c00000"/>
                  </a:solidFill>
                  <a:uFillTx/>
                  <a:latin typeface="Calibri"/>
                </a:rPr>
                <a:t>offerta sussidiaria integra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Calibri"/>
                </a:rPr>
                <a:t>Gli studenti iscritti ai percorsi quinquennali degli IP finalizzati all’acquisizione dei diplomi di IP possono conseguire, al termine del terzo anno, anche i titoli di qualifica professionale  in relazione all’indirizzo di studio frequentato, validi per l’assolvimento del diritto-dovere all’istruzione e alla formazion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9" descr="http://www.blogforlife.net/wp-content/uploads/scelta.jpg"/>
          <p:cNvPicPr/>
          <p:nvPr/>
        </p:nvPicPr>
        <p:blipFill>
          <a:blip r:embed="rId2"/>
          <a:stretch/>
        </p:blipFill>
        <p:spPr>
          <a:xfrm>
            <a:off x="324000" y="0"/>
            <a:ext cx="1511280" cy="1512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73" name="Rectangle 3"/>
          <p:cNvSpPr/>
          <p:nvPr/>
        </p:nvSpPr>
        <p:spPr>
          <a:xfrm>
            <a:off x="4716360" y="1916280"/>
            <a:ext cx="4213440" cy="4752720"/>
          </a:xfrm>
          <a:prstGeom prst="rect">
            <a:avLst/>
          </a:prstGeom>
          <a:solidFill>
            <a:srgbClr val="99ff3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c00000"/>
                </a:solidFill>
                <a:uFillTx/>
                <a:latin typeface="Calibri"/>
              </a:rPr>
              <a:t>TIPOLOGIA B</a:t>
            </a:r>
            <a:r>
              <a:rPr b="1" i="1" lang="it-IT" sz="2000" spc="-1" strike="noStrike" u="sng">
                <a:solidFill>
                  <a:srgbClr val="c00000"/>
                </a:solidFill>
                <a:uFillTx/>
                <a:latin typeface="Calibri"/>
              </a:rPr>
              <a:t>: </a:t>
            </a:r>
            <a:r>
              <a:rPr b="1" lang="it-IT" sz="2000" spc="-1" strike="noStrike" u="sng">
                <a:solidFill>
                  <a:srgbClr val="c00000"/>
                </a:solidFill>
                <a:uFillTx/>
                <a:latin typeface="Calibri"/>
              </a:rPr>
              <a:t>offerta sussidiaria complem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Calibri"/>
              </a:rPr>
              <a:t>Gli IP attivano classi che assumono gli standard formativi e la regolamentazione dell’ordinamento dei percorsi di IeFP, determinati da ciascuna Regione nel rispetto dei livelli essenziali di cui al Capo III del decreto legislativo n. 226/2005, ove gli studenti possono conseguire i titoli di Qualifica e Diploma Profess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073640" cy="70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Tipologie </a:t>
            </a:r>
            <a:r>
              <a:rPr b="1" i="1" lang="en-US" sz="2400" spc="-1" strike="noStrike">
                <a:solidFill>
                  <a:srgbClr val="cc3300"/>
                </a:solidFill>
                <a:latin typeface="Calibri"/>
              </a:rPr>
              <a:t>sussidiarie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previste dall’intesa 16.12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95280" y="3933720"/>
            <a:ext cx="8064360" cy="1189080"/>
          </a:xfrm>
          <a:prstGeom prst="rect">
            <a:avLst/>
          </a:prstGeom>
          <a:solidFill>
            <a:srgbClr val="ccec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Con appositi Accordi tra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Regioni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 e </a:t>
            </a: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Uffici Scolastici Regionali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si definiscono le modalità di attuazione dell’offerta formativa sussidiaria per i percorsi di IeFP negli Istituti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http://www.blogforlife.net/wp-content/uploads/scelta.jpg"/>
          <p:cNvPicPr/>
          <p:nvPr/>
        </p:nvPicPr>
        <p:blipFill>
          <a:blip r:embed="rId1"/>
          <a:stretch/>
        </p:blipFill>
        <p:spPr>
          <a:xfrm>
            <a:off x="324000" y="836640"/>
            <a:ext cx="1511280" cy="1512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77" name="Rectangle 2"/>
          <p:cNvSpPr/>
          <p:nvPr/>
        </p:nvSpPr>
        <p:spPr>
          <a:xfrm>
            <a:off x="1258920" y="1557360"/>
            <a:ext cx="7074000" cy="70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Tipologie </a:t>
            </a:r>
            <a:r>
              <a:rPr b="1" i="1" lang="en-US" sz="2400" spc="-1" strike="noStrike">
                <a:solidFill>
                  <a:srgbClr val="cc3300"/>
                </a:solidFill>
                <a:latin typeface="Calibri"/>
              </a:rPr>
              <a:t>sussidiarie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previste dall’intesa 16.12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t1.gstatic.com/images?q=tbn:ANd9GcQRqh-1ZCGFRo3KBmw9FLRvBFbp48ACzoeSyFZ5U-Ue32QBRk8eIr7c7wv2wQ"/>
          <p:cNvPicPr/>
          <p:nvPr/>
        </p:nvPicPr>
        <p:blipFill>
          <a:blip r:embed="rId2"/>
          <a:stretch/>
        </p:blipFill>
        <p:spPr>
          <a:xfrm>
            <a:off x="3780000" y="2708280"/>
            <a:ext cx="1371600" cy="11905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grpSp>
        <p:nvGrpSpPr>
          <p:cNvPr id="79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80" name="Picture 1" descr="http://www.ladestra.info/public/wordpress/wp-content/uploads/2007/12/repubblica_italiana.jpg"/>
            <p:cNvPicPr/>
            <p:nvPr/>
          </p:nvPicPr>
          <p:blipFill>
            <a:blip r:embed="rId3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1052640"/>
            <a:ext cx="6337440" cy="5760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UOVE QUALIFICHE 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5"/>
          <p:cNvSpPr/>
          <p:nvPr/>
        </p:nvSpPr>
        <p:spPr>
          <a:xfrm>
            <a:off x="611280" y="1989000"/>
            <a:ext cx="71136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68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RODUZIONI INDUSTRIALI E ARTIGIA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DELL’ABBIGLI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DELLE CALZ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DELLE PRODUZIONI CHIM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ED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ELETTRICO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ELETTRO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GRA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DELLE LAVORAZIONI ARTISTICHE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DEL LEGNO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ERATORE DELLE IMBARCAZIONI DA DI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7"/>
          <p:cNvSpPr/>
          <p:nvPr/>
        </p:nvSpPr>
        <p:spPr>
          <a:xfrm>
            <a:off x="611280" y="4797360"/>
            <a:ext cx="71532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68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MANUTENZIONE E ASSISTENZA TE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ALLA RIPARAZIONE DEI VEICOLI A MO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MECCAN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DI IMPIANTI TERMOIDRAUL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uppo 8"/>
          <p:cNvGrpSpPr/>
          <p:nvPr/>
        </p:nvGrpSpPr>
        <p:grpSpPr>
          <a:xfrm>
            <a:off x="395280" y="189000"/>
            <a:ext cx="4175280" cy="541440"/>
            <a:chOff x="395280" y="189000"/>
            <a:chExt cx="4175280" cy="541440"/>
          </a:xfrm>
        </p:grpSpPr>
        <p:pic>
          <p:nvPicPr>
            <p:cNvPr id="86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395280" y="189000"/>
              <a:ext cx="452880" cy="5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CasellaDiTesto 15"/>
            <p:cNvSpPr/>
            <p:nvPr/>
          </p:nvSpPr>
          <p:spPr>
            <a:xfrm>
              <a:off x="820080" y="331920"/>
              <a:ext cx="3750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7" descr="http://t1.gstatic.com/images?q=tbn:ANd9GcQ8ReJ0E0Xsc1qq4fSgYJH9dXWyW78vfKdrmoG4OLLTIa8MTMap4dgfOsgw"/>
          <p:cNvPicPr/>
          <p:nvPr/>
        </p:nvPicPr>
        <p:blipFill>
          <a:blip r:embed="rId2"/>
          <a:stretch/>
        </p:blipFill>
        <p:spPr>
          <a:xfrm>
            <a:off x="6659640" y="2565360"/>
            <a:ext cx="1512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SERVIZ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AMMINISTRATIVO-SEGRETARIALE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AI SERVIZI DI VENDIT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DEI SISTEMI E DEI SERVIZI LOGISTICI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SERVIZI PER L’AGRICOLTURA E LO SVILUPPO R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DELLA TRASFORMAZIONE AGROALIMENT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AGRI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OPERATORE DEL BENESS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6913440" cy="7063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UOVE QUALIFICHE 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http://t1.gstatic.com/images?q=tbn:ANd9GcQ8ReJ0E0Xsc1qq4fSgYJH9dXWyW78vfKdrmoG4OLLTIa8MTMap4dgfOsgw"/>
          <p:cNvPicPr/>
          <p:nvPr/>
        </p:nvPicPr>
        <p:blipFill>
          <a:blip r:embed="rId1"/>
          <a:stretch/>
        </p:blipFill>
        <p:spPr>
          <a:xfrm>
            <a:off x="7093080" y="2924280"/>
            <a:ext cx="1369800" cy="1701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324000" y="1844640"/>
            <a:ext cx="81374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168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SERVIZI PER L’ENOGASTRONOMIA E L’OSPITALITA’ ALBERGH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DELLA RISTO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OPERATORE AI SERVIZI DI PROMOZIONE E ACCOGLI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1341360"/>
            <a:ext cx="6553440" cy="93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Calibri"/>
              </a:rPr>
              <a:t>ACCORDO </a:t>
            </a:r>
            <a:br>
              <a:rPr sz="2800"/>
            </a:br>
            <a:r>
              <a:rPr b="1" lang="it-IT" sz="2800" spc="-1" strike="noStrike">
                <a:solidFill>
                  <a:srgbClr val="c00000"/>
                </a:solidFill>
                <a:latin typeface="Calibri"/>
              </a:rPr>
              <a:t>REGIONE ABRUZZO – U.S.R.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20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Calibri"/>
              </a:rPr>
              <a:t>TIPOLOGIA A: offerta sussidiaria integ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Consente agli studenti iscritti ai percorsi quinquennali degli I.P. di conseguire, al termine del terzo anno, anche i titoli di Qualifica Professionale stabiliti dall’Intesa 16 dicembre 2010, in relazione all’indirizzo di studio frequent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po 8"/>
          <p:cNvGrpSpPr/>
          <p:nvPr/>
        </p:nvGrpSpPr>
        <p:grpSpPr>
          <a:xfrm>
            <a:off x="250920" y="189000"/>
            <a:ext cx="4248000" cy="541440"/>
            <a:chOff x="250920" y="189000"/>
            <a:chExt cx="4248000" cy="541440"/>
          </a:xfrm>
        </p:grpSpPr>
        <p:pic>
          <p:nvPicPr>
            <p:cNvPr id="96" name="Picture 1" descr="http://www.ladestra.info/public/wordpress/wp-content/uploads/2007/12/repubblica_italiana.jpg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460800" cy="5022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  <p:sp>
          <p:nvSpPr>
            <p:cNvPr id="97" name="CasellaDiTesto 15"/>
            <p:cNvSpPr/>
            <p:nvPr/>
          </p:nvSpPr>
          <p:spPr>
            <a:xfrm>
              <a:off x="683280" y="331920"/>
              <a:ext cx="381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Ministero dell’Istruzione, dell’Università e della Ricer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060"/>
                  </a:solidFill>
                  <a:latin typeface="Calibri"/>
                </a:rPr>
                <a:t>Ufficio Scolastico Regionale per l’Abruzz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ttangolo 6"/>
          <p:cNvSpPr/>
          <p:nvPr/>
        </p:nvSpPr>
        <p:spPr>
          <a:xfrm>
            <a:off x="395280" y="4941720"/>
            <a:ext cx="8209080" cy="1191240"/>
          </a:xfrm>
          <a:prstGeom prst="rect">
            <a:avLst/>
          </a:prstGeom>
          <a:solidFill>
            <a:srgbClr val="daede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I Piani dell’Offerta Formativa degli I.P. consentono agli studenti che hanno conseguito la Qualifica, il proseguimento del percorso quinquen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egione"/>
          <p:cNvPicPr/>
          <p:nvPr/>
        </p:nvPicPr>
        <p:blipFill>
          <a:blip r:embed="rId2"/>
          <a:stretch/>
        </p:blipFill>
        <p:spPr>
          <a:xfrm>
            <a:off x="6227640" y="189000"/>
            <a:ext cx="2016360" cy="469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00" name="Rectangle 7"/>
          <p:cNvSpPr/>
          <p:nvPr/>
        </p:nvSpPr>
        <p:spPr>
          <a:xfrm>
            <a:off x="5796000" y="693360"/>
            <a:ext cx="2951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68"/>
                </a:solidFill>
                <a:latin typeface="Calibri"/>
              </a:rPr>
              <a:t>Assessorato alle Politiche attive del Lavor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68"/>
                </a:solidFill>
                <a:latin typeface="Calibri"/>
              </a:rPr>
              <a:t>Formazione ed Istruzione, </a:t>
            </a:r>
            <a:r>
              <a:rPr b="0" lang="en-US" sz="1000" spc="-1" strike="noStrike">
                <a:solidFill>
                  <a:srgbClr val="000099"/>
                </a:solidFill>
                <a:latin typeface="Calibri"/>
              </a:rPr>
              <a:t>Politiche</a:t>
            </a:r>
            <a:r>
              <a:rPr b="0" lang="en-US" sz="1000" spc="-1" strike="noStrike">
                <a:solidFill>
                  <a:srgbClr val="222268"/>
                </a:solidFill>
                <a:latin typeface="Calibri"/>
              </a:rPr>
              <a:t> Sociali</a:t>
            </a:r>
            <a:r>
              <a:rPr b="0" lang="en-US" sz="1100" spc="-1" strike="noStrike">
                <a:solidFill>
                  <a:srgbClr val="222268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258920" y="549360"/>
            <a:ext cx="6553080" cy="718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STITUTI PROFESSIONALI IN ABRU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76360" y="3860640"/>
          <a:ext cx="6438960" cy="1765440"/>
        </p:xfrm>
        <a:graphic>
          <a:graphicData uri="http://schemas.openxmlformats.org/drawingml/2006/table">
            <a:tbl>
              <a:tblPr/>
              <a:tblGrid>
                <a:gridCol w="4344840"/>
                <a:gridCol w="2094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 e l’Artigiana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Alberghieri e Ristorazi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Agricoltura e Ambi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ommercial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2229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8:43:43Z</dcterms:created>
  <dc:creator>Workst</dc:creator>
  <dc:description/>
  <dc:language>en-US</dc:language>
  <cp:lastModifiedBy>I.P.S.S.A.C.T. "L.Di Poppa" </cp:lastModifiedBy>
  <dcterms:modified xsi:type="dcterms:W3CDTF">2011-05-30T07:35:19Z</dcterms:modified>
  <cp:revision>92</cp:revision>
  <dc:subject/>
  <dc:title>Diapositiva 1</dc:title>
</cp:coreProperties>
</file>