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7DE-ADE4-4CF8-9F64-B70FB4BC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903-C885-4D9B-9509-8E285E2D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44F-C771-465F-A2AC-4DD301C7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737-E94D-4DBA-8EF1-16B9A220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8A4-3EAD-4226-9ED5-774581EC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BFFD-7F43-485A-A85F-384D31C5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184-69DC-4D2A-A482-001BED9E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05A-BE72-4C9F-ABC9-AB14B778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A9E-1616-4F9C-9971-B2B00D55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8E7-68F5-42E3-A19C-617B3284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F64-0611-4FDF-8B76-C9D07B82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96D-9472-47B5-9991-69A78180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581117-FEB2-43CC-8F5B-795680E80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0512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l_fi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640080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6516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Microsoft JhengHei"/>
              </a:rPr>
              <a:t>Giulianova, 30 maggio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048120"/>
            <a:ext cx="9144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Microsoft JhengHei"/>
                <a:ea typeface="Arial Unicode MS"/>
              </a:rPr>
              <a:t>Sistema di Istruzione e formazione professiona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it-IT" sz="4000" spc="-1" strike="noStrike">
                <a:solidFill>
                  <a:srgbClr val="990000"/>
                </a:solidFill>
                <a:latin typeface="Microsoft JhengHei"/>
                <a:ea typeface="Arial Unicode MS"/>
              </a:rPr>
              <a:t>IeFP: Accordo regionale</a:t>
            </a:r>
            <a:r>
              <a:rPr b="1" lang="it-IT" sz="3200" spc="-1" strike="noStrike">
                <a:solidFill>
                  <a:srgbClr val="ff0000"/>
                </a:solidFill>
                <a:latin typeface="바탕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Bradley Hand ITC"/>
                <a:ea typeface="Arial Unicode MS"/>
              </a:rPr>
              <a:t>(a cura di Mariella Spinosi)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5f5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59760"/>
            <a:ext cx="7010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Arial Unicode MS"/>
                <a:ea typeface="宋体"/>
              </a:rPr>
              <a:t>IeFP: gli ultimi documenti di riferi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432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9680" y="137484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 Accordo 29 aprile 2010 (CU Stato Reg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dividuazione di 21 figure professionali (per le qualifiche di durata triennale) e 21 per le qualifiche quadrien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er ciascuna figura vengono individuate le competenze, le abilità minime e le conoscenze essenz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7880" y="386064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, Decreto interministeriale 15 giugno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46724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Arial"/>
              </a:rPr>
              <a:t>Il MIUR recepisce l’accordo del 29 aprile definendo tutti gli aspetti relativi al passaggio al nuovo ordinamento, il ruolo che devono assumere gli Istituti professionali (sussidiarietà integrativa o complementare), le intese tra MIUR, MEF e Regioni, i vincoli finanz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0500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162920" y="0"/>
          <a:ext cx="1981080" cy="185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0"/>
                    <a:ext cx="19810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5f5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7162920" y="0"/>
          <a:ext cx="1981080" cy="185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0"/>
                    <a:ext cx="19810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7432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7880" y="60948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 Intesa 16 dicembre 2010 e linee g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647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Arial"/>
              </a:rPr>
              <a:t>In sede di conferenza unificata: indicazioni ed orientamenti per organici raccordi tra percorsi quinquennali degli IP e gli Ie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86704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li studenti possono iscriversi ad entrambi i perco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l conseguimento delle qualifiche e dei diplomi verrà definita con atti success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77216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inee guida: ruolo integrativo e complementare degli IP, forme di organizzazione territoriale, orientamento per i giovani, raccordi con il sistema universitario, utilizzo efficiente delle ris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5f5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7432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0" y="0"/>
          <a:ext cx="2286000" cy="21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0"/>
                    <a:ext cx="228600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286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21654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ferta sussidiaria integrativa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estuale richiesta di conseguimento della qualifica professionale a conclusione del terzo an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li IP propongono percorsi di qualifica corrispondenti a quelli attualmente realizz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43434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Offerta sussidiaria complementar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Arial"/>
              </a:rPr>
              <a:t>La Regione decide di attivare presso gli IP classi con standard formativi dei percorsi triennali degli IeFP. A tali corsi si iscrivono gli studenti che intendono conseguire solo il titolo di qualifica trien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93280"/>
            <a:ext cx="7010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Arial Unicode MS"/>
                <a:ea typeface="宋体"/>
              </a:rPr>
              <a:t>IeFP: Tipologie di percorsi in accordo con gli 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5f5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28836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Arial Unicode MS"/>
                <a:ea typeface="宋体"/>
              </a:rPr>
              <a:t>IeFP: Sintesi norm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295280"/>
            <a:ext cx="41148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Legge 28 marzo 2003, n. 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819440"/>
            <a:ext cx="9144000" cy="57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D.Lgs 17 ottobre 2005, n. 22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Legge 2 aprile 2007, n.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revede la definizione delle linee guida di cui all’articolo 13, comma 1-quinqu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Legge 6 agosto 2008, n. 133. Art. 64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idefinisce i currico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. Accordo MIUR, MLPS, Regioni 29 aprile 2010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1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gure per le qualifiche triennali e 21 figure per le qualifiche quadrienn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. DPR 15 marzo 2010, n. 87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iguarda il regolamento di riordino degli Ist prof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. Direttiva 28 luglio 2010, n. 65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Linee guida per gli Istituti profession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. Documento di lavoro riunione MIUR 27 maggio 2010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fferta sussidiaria degli I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. Decreto interministeriale 15 giugno 2010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cepisce l'Accordo del  29 aprile 2010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. Intesa del 16 dicembre 2010 e Linee guida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grata con la nota 640 del 24.2.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32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0" y="0"/>
          <a:ext cx="2286000" cy="21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0"/>
                    <a:ext cx="228600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4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2916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00400" y="-360"/>
            <a:ext cx="60199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a8310c"/>
                </a:solidFill>
                <a:latin typeface="Arial Unicode MS"/>
              </a:rPr>
              <a:t>Legge 28 marzo 2003, n. 53</a:t>
            </a:r>
            <a:r>
              <a:rPr b="0" lang="en-US" sz="3200" spc="-1" strike="noStrike">
                <a:solidFill>
                  <a:srgbClr val="a8310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99840" y="8380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2: Sistema educativo di istruzio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di 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577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l_fi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864600">
            <a:off x="8078400" y="35812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e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8560" y="3581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00200"/>
            <a:ext cx="6705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) </a:t>
            </a: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l secondo ciclo è costituito dal sistema dei </a:t>
            </a:r>
            <a:r>
              <a:rPr b="1" lang="it-IT" sz="3200" spc="-1" strike="noStrike">
                <a:solidFill>
                  <a:srgbClr val="000099"/>
                </a:solidFill>
                <a:latin typeface="Arial Unicode MS"/>
                <a:ea typeface="Times New Roman"/>
              </a:rPr>
              <a:t>licei</a:t>
            </a: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e dal sistema </a:t>
            </a:r>
            <a:r>
              <a:rPr b="0" lang="it-IT" sz="3200" spc="-1" strike="noStrike">
                <a:solidFill>
                  <a:srgbClr val="000099"/>
                </a:solidFill>
                <a:latin typeface="Arial Unicode MS"/>
                <a:ea typeface="Times New Roman"/>
              </a:rPr>
              <a:t>dell’</a:t>
            </a:r>
            <a:r>
              <a:rPr b="1" lang="it-IT" sz="3200" spc="-1" strike="noStrike">
                <a:solidFill>
                  <a:srgbClr val="000099"/>
                </a:solidFill>
                <a:latin typeface="Arial Unicode MS"/>
                <a:ea typeface="Times New Roman"/>
              </a:rPr>
              <a:t>istruzione e </a:t>
            </a:r>
            <a:r>
              <a:rPr b="0" lang="it-IT" sz="3200" spc="-1" strike="noStrike">
                <a:solidFill>
                  <a:srgbClr val="000099"/>
                </a:solidFill>
                <a:latin typeface="Arial Unicode MS"/>
                <a:ea typeface="Times New Roman"/>
              </a:rPr>
              <a:t>della</a:t>
            </a:r>
            <a:r>
              <a:rPr b="1" lang="it-IT" sz="3200" spc="-1" strike="noStrike">
                <a:solidFill>
                  <a:srgbClr val="000099"/>
                </a:solidFill>
                <a:latin typeface="Arial Unicode MS"/>
                <a:ea typeface="Times New Roman"/>
              </a:rPr>
              <a:t> formazione professionale</a:t>
            </a: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al compimento del quindicesimo anno di età i diplomi e le qualifiche si possono conseguire in alternanza scuola-lavoro o attraverso l’apprendistat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720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l_fi" descr=""/>
          <p:cNvPicPr/>
          <p:nvPr/>
        </p:nvPicPr>
        <p:blipFill>
          <a:blip r:embed="rId2"/>
          <a:stretch/>
        </p:blipFill>
        <p:spPr>
          <a:xfrm>
            <a:off x="0" y="0"/>
            <a:ext cx="30099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4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0372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a8310c"/>
                </a:solidFill>
                <a:latin typeface="Arial Unicode MS"/>
              </a:rPr>
              <a:t>Legge 28 marzo 2003, n. 53</a:t>
            </a:r>
            <a:r>
              <a:rPr b="0" lang="en-US" sz="3200" spc="-1" strike="noStrike">
                <a:solidFill>
                  <a:srgbClr val="a8310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2: Sistema educativo di istruzio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di 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) il sistema dei licei comprende i lic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50767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 licei artistico, economico e tecnologico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i articolano in indirizzi per corrispondere ai diversi fabbisogni formativi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116080"/>
            <a:ext cx="45720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rtist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las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d82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82900"/>
                </a:solidFill>
                <a:latin typeface="Arial Unicode MS"/>
                <a:ea typeface="Times New Roman"/>
              </a:rPr>
              <a:t>economico</a:t>
            </a:r>
            <a:r>
              <a:rPr b="1" lang="it-IT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inguist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usicale e coreut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cientif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d82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82900"/>
                </a:solidFill>
                <a:latin typeface="Arial Unicode MS"/>
                <a:ea typeface="Times New Roman"/>
              </a:rPr>
              <a:t>tecnologico</a:t>
            </a:r>
            <a:r>
              <a:rPr b="1" lang="it-IT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lle scienze um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6720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l_fi" descr=""/>
          <p:cNvPicPr/>
          <p:nvPr/>
        </p:nvPicPr>
        <p:blipFill>
          <a:blip r:embed="rId1"/>
          <a:stretch/>
        </p:blipFill>
        <p:spPr>
          <a:xfrm>
            <a:off x="4648320" y="2092320"/>
            <a:ext cx="37335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5562720" cy="106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402920" y="2637000"/>
            <a:ext cx="6985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3200" spc="-1" strike="noStrike">
                <a:solidFill>
                  <a:srgbClr val="0026a0"/>
                </a:solidFill>
                <a:latin typeface="Times New Roman"/>
                <a:ea typeface="바탕"/>
              </a:rPr>
              <a:t>Legge 2 aprile 2007, n. 40, art.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sposizioni urgenti in materia di istruzione tecnico-professionale e di valorizzazione dell'autonomia scolast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-76320"/>
            <a:ext cx="591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a0"/>
                </a:solidFill>
                <a:latin typeface="Arial"/>
              </a:rPr>
              <a:t>La questione dell’istruzione tecnico-profess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478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l_fi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0026a0"/>
                </a:solidFill>
                <a:latin typeface="Arial"/>
                <a:ea typeface="바탕"/>
              </a:rPr>
              <a:t>Legge 2 aprile 2007, n. 40, art. 13, comm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宋体"/>
              </a:rPr>
              <a:t>Fanno parte del sistema dell'istruzione secondaria superiore i licei, gli istituti tecnici e gli istituti professionali… tutti finalizzati al conseguimento di un diploma di istruzione secondaria superi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宋体"/>
              </a:rPr>
              <a:t>(sono soppresse le parole </a:t>
            </a:r>
            <a:r>
              <a:rPr b="1" lang="it-IT" sz="2400" spc="-1" strike="noStrike">
                <a:solidFill>
                  <a:srgbClr val="d82900"/>
                </a:solidFill>
                <a:latin typeface="Arial"/>
                <a:ea typeface="宋体"/>
              </a:rPr>
              <a:t>economic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宋体"/>
              </a:rPr>
              <a:t>e </a:t>
            </a:r>
            <a:r>
              <a:rPr b="1" lang="it-IT" sz="2400" spc="-1" strike="noStrike">
                <a:solidFill>
                  <a:srgbClr val="d82900"/>
                </a:solidFill>
                <a:latin typeface="Arial"/>
                <a:ea typeface="宋体"/>
              </a:rPr>
              <a:t>tecnologic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0036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943600" y="2514600"/>
            <a:ext cx="2852640" cy="3505320"/>
            <a:chOff x="5943600" y="2514600"/>
            <a:chExt cx="2852640" cy="3505320"/>
          </a:xfrm>
        </p:grpSpPr>
        <p:sp>
          <p:nvSpPr>
            <p:cNvPr id="72" name=""/>
            <p:cNvSpPr/>
            <p:nvPr/>
          </p:nvSpPr>
          <p:spPr>
            <a:xfrm>
              <a:off x="8078760" y="2514600"/>
              <a:ext cx="71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d82900"/>
                  </a:solidFill>
                  <a:latin typeface="Arial"/>
                </a:rPr>
                <a:t>I</a:t>
              </a:r>
              <a:r>
                <a:rPr b="1" i="1" lang="it-IT" sz="2000" spc="-1" strike="noStrike">
                  <a:solidFill>
                    <a:srgbClr val="d82900"/>
                  </a:solidFill>
                  <a:latin typeface="Arial"/>
                </a:rPr>
                <a:t>e</a:t>
              </a:r>
              <a:r>
                <a:rPr b="1" lang="it-IT" sz="2000" spc="-1" strike="noStrike">
                  <a:solidFill>
                    <a:srgbClr val="d82900"/>
                  </a:solidFill>
                  <a:latin typeface="Arial"/>
                </a:rPr>
                <a:t>F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9674600">
              <a:off x="6553080" y="3124440"/>
              <a:ext cx="533520" cy="1828800"/>
            </a:xfrm>
            <a:prstGeom prst="upArrow">
              <a:avLst>
                <a:gd name="adj1" fmla="val 50000"/>
                <a:gd name="adj2" fmla="val 85695"/>
              </a:avLst>
            </a:prstGeom>
            <a:solidFill>
              <a:srgbClr val="335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21476400">
              <a:off x="7086600" y="2971440"/>
              <a:ext cx="533520" cy="1828800"/>
            </a:xfrm>
            <a:prstGeom prst="upArrow">
              <a:avLst>
                <a:gd name="adj1" fmla="val 50000"/>
                <a:gd name="adj2" fmla="val 85695"/>
              </a:avLst>
            </a:prstGeom>
            <a:solidFill>
              <a:srgbClr val="335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063800">
              <a:off x="7467480" y="3124440"/>
              <a:ext cx="533520" cy="1828800"/>
            </a:xfrm>
            <a:prstGeom prst="upArrow">
              <a:avLst>
                <a:gd name="adj1" fmla="val 50000"/>
                <a:gd name="adj2" fmla="val 85695"/>
              </a:avLst>
            </a:prstGeom>
            <a:solidFill>
              <a:srgbClr val="335d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7171400">
              <a:off x="6919200" y="3825720"/>
              <a:ext cx="161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fession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053600">
              <a:off x="6862680" y="334908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cni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4272200">
              <a:off x="6233760" y="35208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c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62920" y="4724640"/>
              <a:ext cx="457200" cy="914400"/>
            </a:xfrm>
            <a:prstGeom prst="rect">
              <a:avLst/>
            </a:prstGeom>
            <a:solidFill>
              <a:srgbClr val="335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43600" y="5639040"/>
              <a:ext cx="2819520" cy="380880"/>
            </a:xfrm>
            <a:prstGeom prst="rect">
              <a:avLst/>
            </a:prstGeom>
            <a:solidFill>
              <a:srgbClr val="335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condo ciclo d’istru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0"/>
            <a:ext cx="5562720" cy="106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-76320"/>
            <a:ext cx="591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a0"/>
                </a:solidFill>
                <a:latin typeface="Arial"/>
              </a:rPr>
              <a:t>La questione dell’istruzione tecnico-profess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l_fi" descr="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61760" y="2060280"/>
            <a:ext cx="7543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000" spc="-1" strike="noStrike">
                <a:solidFill>
                  <a:srgbClr val="0026a0"/>
                </a:solidFill>
                <a:latin typeface="Arial"/>
                <a:ea typeface="바탕"/>
              </a:rPr>
              <a:t>Legge 2 aprile 2007, n. 40,  art. 13, comma 1-quinqu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ono adottate apposite linee guida, predisposte dal Ministro della pubblica istruzione e d'intesa (…) con la Conferenza unificata  (…) al fine di realizzar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organici raccord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tra i percorsi degli istituti tecnico-professionali e i percorsi di istruzione e formazione professionale finalizzati al conseguimento di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qualifiche e diplom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professionali di competenza dell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region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compresi in un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apposito repertorio nazionale</a:t>
            </a:r>
            <a:r>
              <a:rPr b="1" lang="it-IT" sz="2400" spc="-1" strike="noStrike">
                <a:solidFill>
                  <a:srgbClr val="d829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5562720" cy="106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-76320"/>
            <a:ext cx="591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a0"/>
                </a:solidFill>
                <a:latin typeface="Arial"/>
              </a:rPr>
              <a:t>La questione dell’istruzione tecnico-profess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l_fi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5f5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28836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Arial Unicode MS"/>
                <a:ea typeface="宋体"/>
              </a:rPr>
              <a:t>IeFP: chi se ne deve occup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432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0" y="0"/>
          <a:ext cx="2286000" cy="21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0"/>
                    <a:ext cx="228600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86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320" y="137484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2668"/>
                </a:solidFill>
                <a:latin typeface="Arial"/>
              </a:rPr>
              <a:t>Prima della legge 53/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9810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P consisteva in un ambito formativo fuori dal sistema scola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31273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2668"/>
                </a:solidFill>
                <a:latin typeface="Arial"/>
              </a:rPr>
              <a:t>Con la legge 53/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733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FP entra a far parte del sistema educativo (IeF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4572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uperamento della divisione cultura lavo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6080" y="533700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2668"/>
                </a:solidFill>
                <a:latin typeface="Arial"/>
              </a:rPr>
              <a:t>Titolo V della Costituzione (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943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’IeFP rientra nelle competenze esclusive della Reg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5f5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28836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Arial Unicode MS"/>
                <a:ea typeface="宋体"/>
              </a:rPr>
              <a:t>IeFP: articolazione del percor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432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0" y="0"/>
          <a:ext cx="2286000" cy="21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0"/>
                    <a:ext cx="228600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286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0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2668"/>
                </a:solidFill>
                <a:latin typeface="Arial"/>
              </a:rPr>
              <a:t>P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447920"/>
            <a:ext cx="853452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S (Istituto professionale di stato): 3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Qualifica professionale (previo esame) dopo il trien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Scelta: mercato del lavoro o prosecu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(2 anni con diploma di matu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0400" y="32767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2668"/>
                </a:solidFill>
                <a:latin typeface="Arial"/>
              </a:rPr>
              <a:t>D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635280"/>
            <a:ext cx="85345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S (Istituto professionale di stato): 2+2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Senza uscite di qualifica al terzo a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800600"/>
            <a:ext cx="853452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eFP (Istruzione e formazione professionale): 3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6600"/>
                </a:solidFill>
                <a:latin typeface="Arial"/>
              </a:rPr>
              <a:t>Con qualifica al terzo anno e diploma al qu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6600"/>
                </a:solidFill>
                <a:latin typeface="Arial"/>
              </a:rPr>
              <a:t>Carattere meno teo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6600"/>
                </a:solidFill>
                <a:latin typeface="Arial"/>
              </a:rPr>
              <a:t>Formazione di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5f5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44064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Arial Unicode MS"/>
                <a:ea typeface="宋体"/>
              </a:rPr>
              <a:t>IeFP: il tit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432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0" y="0"/>
          <a:ext cx="2286000" cy="21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0"/>
                    <a:ext cx="228600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286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1840" y="1243080"/>
            <a:ext cx="35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a2668"/>
                </a:solidFill>
                <a:latin typeface="Arial"/>
              </a:rPr>
              <a:t>Prima della legge 53/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600200"/>
            <a:ext cx="853452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Le qualifiche rilasciate dalla Regione avevano un valore territoria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Non erano equiparabili ai titoli di studio rilasciati dalla scuo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0760" y="3048120"/>
            <a:ext cx="66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a2668"/>
                </a:solidFill>
                <a:latin typeface="Arial"/>
              </a:rPr>
              <a:t>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3382920"/>
            <a:ext cx="8534520" cy="31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Sia le qualifiche, sia i diplomi professionali diventano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itolo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 valido per l’assolvimento dell’obbligo d’istruzione e del diritto dovere all’istruzione e formazi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Sono titoli spendibili su tutto il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erritorio nazion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(se riferiti a standard comuni concordati con la region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Sono spendibili nell’ambito dell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munità europ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(se rapportati al III livello EQF per le qualifiche e al IV per i diplom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6:21:41Z</dcterms:created>
  <dc:creator>Mariella</dc:creator>
  <dc:description/>
  <dc:language>en-US</dc:language>
  <cp:lastModifiedBy>acer</cp:lastModifiedBy>
  <dcterms:modified xsi:type="dcterms:W3CDTF">2011-05-29T13:12:38Z</dcterms:modified>
  <cp:revision>181</cp:revision>
  <dc:subject/>
  <dc:title>Diapositiva 1</dc:title>
</cp:coreProperties>
</file>