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9B6-492E-4333-BEB2-B8D34C90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9AF-1A28-429C-A127-131E9293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284-3804-4516-AE54-05BF2475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328-CABF-494F-9B8B-BBF4D1DC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7F40-6D6F-4662-B206-D0D4511A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17DC-AD34-4756-BD0D-611C0D1A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3100-7F47-4F3A-B868-9A6EC120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466E-7E48-419E-A0AB-455EEADD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83F4-EDF3-4680-A82A-1AA20D6B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027A-0B31-4C8E-BD53-F506E67E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184D-B964-49FE-AA7A-928A062E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804-967E-43A6-BCB9-4A652E15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8DE4-30A6-4C31-8B29-758A62D2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125B-CC5A-4458-88E5-97C65F65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1D2B-72F7-4417-B331-BCFD24A0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4B9-EF3E-4732-864C-88C9EBFC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AACB-3158-4580-988F-4407F6BE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767-8D8E-4668-80B1-9E23BBD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131-7D46-491F-A9E7-A25DF9AD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440-6292-4523-A57A-89AC5911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D83-7204-48AB-8648-DF569A24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B99-7DE5-41FA-B33C-21EC29E4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CE0-3E6C-402E-995A-BB73225F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6EA-5489-4610-8E82-046E1DB8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FFB5-1241-4AC0-AA48-FA9267183C7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4D81-05FA-4CAB-9AAB-2D53CD3797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6400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cc"/>
                </a:solidFill>
                <a:latin typeface="Bookman Old Style"/>
              </a:rPr>
              <a:t>ACCORDI REGIONI / USR</a:t>
            </a:r>
            <a:br>
              <a:rPr sz="3200"/>
            </a:br>
            <a:r>
              <a:rPr b="1" i="1" lang="it-IT" sz="2400" spc="-1" strike="noStrike">
                <a:solidFill>
                  <a:srgbClr val="ffffcc"/>
                </a:solidFill>
                <a:latin typeface="Bookman Old Style"/>
              </a:rPr>
              <a:t>PER LA REALIZZAZIONE</a:t>
            </a:r>
            <a:br>
              <a:rPr sz="2400"/>
            </a:br>
            <a:r>
              <a:rPr b="1" i="1" lang="it-IT" sz="2400" spc="-1" strike="noStrike">
                <a:solidFill>
                  <a:srgbClr val="ffffcc"/>
                </a:solidFill>
                <a:latin typeface="Bookman Old Style"/>
              </a:rPr>
              <a:t>DI PERCORSI DI</a:t>
            </a:r>
            <a:br>
              <a:rPr sz="2400"/>
            </a:br>
            <a:r>
              <a:rPr b="1" i="1" lang="it-IT" sz="3200" spc="-1" strike="noStrike">
                <a:solidFill>
                  <a:srgbClr val="ffffcc"/>
                </a:solidFill>
                <a:latin typeface="Book Antiqua"/>
              </a:rPr>
              <a:t>IeFP</a:t>
            </a:r>
            <a:r>
              <a:rPr b="1" i="1" lang="it-IT" sz="3200" spc="-1" strike="noStrike">
                <a:solidFill>
                  <a:srgbClr val="720000"/>
                </a:solidFill>
                <a:latin typeface="Book Antiqua"/>
              </a:rPr>
              <a:t> </a:t>
            </a:r>
            <a:br>
              <a:rPr sz="3200"/>
            </a:br>
            <a:r>
              <a:rPr b="1" i="1" lang="it-IT" sz="2400" spc="-1" strike="noStrike">
                <a:solidFill>
                  <a:srgbClr val="ffffcc"/>
                </a:solidFill>
                <a:latin typeface="Bookman Old Style"/>
              </a:rPr>
              <a:t>DI DURATA TRIENNALE</a:t>
            </a:r>
            <a:r>
              <a:rPr b="1" i="1" lang="it-IT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LE SOLUZIONI ADOTTATE DALLE REGIO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en-US" sz="1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Abruzzo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                          Campan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Puglia                                                Basilica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Piemonte                                            Calab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Marche                                               Umb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Lombardia                                          Lazio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Emilia Romagna                                 Venet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Sicilia                                                Molise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Liguria                                               Friu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Bookman Old Style"/>
              </a:rPr>
              <a:t>Tosca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Bookman Old Style"/>
              </a:rPr>
              <a:t>ALTRI ASPETTI SPECIFIC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Tutti i protocolli d’intesa prevedono la costituzione di un Tavolo Tecnico Interistituzionale per accompagnare e sostenere l’attuazione dell’acco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Bookman Old Style"/>
              </a:rPr>
              <a:t>PUNTI CHIAVE DELLE INTES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Tipologia dell’offerta sussidi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Determinazione degli organi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Contributo finanziario della Regi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Istituti ammessi al rilascio delle qualific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Modalità di adattamento del curricolo quinquennale nel triennio di qualif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Azioni di monitoragg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Altri aspetti specifi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Bookman Old Style"/>
              </a:rPr>
              <a:t>TIPOLOGIA DELL’OFFERTA SUSSIDIAR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Offerta sussidiaria integrativa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( Tipo A dell’intesa del 16.12.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Abruzzo-Puglia-Piemonte-Marche-Emilia Romagna-Liguria-Toscana- Campania-Basilicata-Molise-Calabria ( prevede, in forma residuale, anche la tipologia B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Offerta sussidiaria complementa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( Tipo  B dell’intesa del 16.12.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Lombardia-Veneto-Friuli V.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Offerta sussidiaria integrativa e complementare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( A e B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Sicil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Bookman Old Style"/>
              </a:rPr>
              <a:t>DETERMINAZIONE DEGLI ORGANIC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L’offerta sussidiaria integrativa ( Tipo A ) dei percorsi IeFP avviene nel limite del numero delle classi della dotazione organica complessiva del percorso statal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i="1" lang="it-IT" sz="1200" spc="-1" strike="noStrike">
                <a:solidFill>
                  <a:srgbClr val="ffffff"/>
                </a:solidFill>
                <a:latin typeface="Bookman Old Style"/>
              </a:rPr>
              <a:t>Abruzzo-Marche-Basilicata-Puglia-Emilia Romagna-Piemonte-Liguria-Lazio-Campania            -Toscana-Calabria-Umbria- Molise-</a:t>
            </a:r>
            <a:r>
              <a:rPr b="1" i="1" lang="it-IT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Sicil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L’offerta sussidiaria complementare ( Tipo B) dei percorsi IeFP avviene nel limite del numero di classi concesso all’Istitu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L’organico delle classi di IeFP è determinato sulle 32 ore ma è declinato dalla scuola secondo un numero minimo e massimo di ore sia per l’area di formazione culturale che per quella professionale. Rimane fisso il tetto delle 1056 ore annuali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i="1" lang="it-IT" sz="1200" spc="-1" strike="noStrike">
                <a:solidFill>
                  <a:srgbClr val="ffffff"/>
                </a:solidFill>
                <a:latin typeface="Bookman Old Style"/>
              </a:rPr>
              <a:t>Veneto-Lombardia-Friuli V.G.-</a:t>
            </a:r>
            <a:r>
              <a:rPr b="1" i="1" lang="it-IT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Sicilia</a:t>
            </a: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In ogni caso, al termine del biennio, gli studenti dovranno conseguire le competenze dei loro colleghi dell’I.P.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Bookman Old Style"/>
              </a:rPr>
              <a:t>CONTRIBUTO FINANZIARIO DELLA REGI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Bookman Old Style"/>
              </a:rPr>
              <a:t>Nessun onere aggiuntivo di sostegno ai corsi tranne quello previsto per il pagamento dei Presidenti e dei membri esterni nominati dalla Regione negli esami di qualific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Abruzzo-Puglia-Piemonte: ( nel regolamento attuativo sarà previsto un contributo per ogni corso di IeFP realizzato) -Liguria-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Toscana</a:t>
            </a: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- Campania-Molise-Friuli V.G.-Basilicata-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Bookman Old Style"/>
              </a:rPr>
              <a:t>Calabria</a:t>
            </a: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-Umbria-Lazio-Vene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Bookman Old Style"/>
              </a:rPr>
              <a:t>Previsione di oneri aggiuntivi oltre quelli relativi alle spese da sostenere per gli esami di qualif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Marche: copre i costi di eventuali ore in più di laborator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Lombardia: rinvia ad una successiva contrattazione integrativa regionale s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          </a:t>
            </a: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a. criteri di premialità in rapporto ai risultati conseguit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          </a:t>
            </a: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b. criteri di distribuzione delle risorse alle scuole collocate in aree a rischio dispersione, sia per i docenti che per il personale A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Bookman Old Style"/>
              </a:rPr>
              <a:t>CONTRIBUTO FINANZIARIO DELLA REGI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Emilia Romagna: supporto economico da quantificare per ogni corso IeFP attua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Bookman Old Style"/>
              </a:rPr>
              <a:t>Sicilia: l’offerta integrativa non prevede oneri aggiuntivi; quella complementare prevede oneri da quantificare per ogni corso IeFP attua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Bookman Old Style"/>
              </a:rPr>
              <a:t>ISTITUTI AMMESSI  AL RILASCIO DELLE QUALIFICH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Tutte le Regioni autorizzano gli I.P.S. e le Agenzie accreditate a realizzare corsi di IeFP. Per gli I.P.S. si troverà la soluzione tecnica transitoria per superare le problematiche relative all’accreditament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La Lombardia autorizzerà  anche gli Istituti Tecnici che lo richiederann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La Calabria concede due anni  di tempo agli I.P.S. per adeguarsi agli standard di accreditamento regional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Bookman Old Style"/>
              </a:rPr>
              <a:t>Il Veneto concederà l’autorizzazione solo agli I.P.S. già accreditat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Bookman Old Style"/>
              </a:rPr>
              <a:t>MODALITA’ DI ADATTAMENTO DEL CURRICOLO QUINQUENNAL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Utilizzo dell’autonomia e della flessibilità ( art.5 comma 3 DPR 87/2010): Puglia, Piemonte, Campania, Calabria, Marche, Basilicata, Emilia Romagna, Liguria, Umbria e Lazi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Le Regioni Toscana e Lazio sono le uniche a non citare affatto l’autonomia e la flessibilità ed individuare i Consigli di classe quali attori principali  in quanto dovranno “organizzare i curricoli, nella loro autonomia, in modo da consentire, agli studenti interessati, la contemporanea prosecuzione dei percorsi quinquennali, nel rispetto delle norme contenute nel DPR n.122/2009 in materia di valutazione degli alunni” (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Non deve prevedersi il riallineament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L’Abruzzo, la Campania , la Basilicata, l’Umbria ed il Molise citano l’autonomia e la flessibilità ma individuano, come la Toscana ed il Lazio, i Consigli di classe come attori fondamental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Bookman Old Style"/>
              </a:rPr>
              <a:t>AZIONI DI MONITORAGGI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Tutte le Regioni prevedono azioni di monitoraggio programmato tra MIUR e le stesse Region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Alcune coinvolgono anche il Ministero del Lavoro, l’INVALSI, L’ANSAS, l’ISFOL e l’I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08:22:41Z</dcterms:created>
  <dc:creator>Amministrazione</dc:creator>
  <dc:description/>
  <dc:language>en-US</dc:language>
  <cp:lastModifiedBy>Master</cp:lastModifiedBy>
  <dcterms:modified xsi:type="dcterms:W3CDTF">2006-02-16T17:34:29Z</dcterms:modified>
  <cp:revision>37</cp:revision>
  <dc:subject/>
  <dc:title>ACCORDI REGIONI / USR PER LA REALIZZAZIONE DI PERCORSI DI IeFP  DI DURATA TRIENNALE </dc:title>
</cp:coreProperties>
</file>